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439-8E8F-4BE8-8EB2-60BD6D85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DD6-C773-4E44-91E5-B099E260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ECEC-8DEF-409F-AE52-7EAC073C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4D0-AC64-43B7-8BE5-6C8D6171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ED5A-CFD9-4F5C-AAB7-07CD2A98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9A4-E8B2-4379-A167-D9699759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B84-B510-49CD-8A8F-57432418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8A2-5103-4FD4-A9A2-F71E630A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8EB-2C3A-493E-952B-7B9DF6B1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632-1608-41E1-9396-6FCD21F6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21C8-2953-49A4-BD09-63F58622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DDF-3760-4651-B2E4-81783003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9201-84D4-4216-8B73-041ADDD67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3320" y="690480"/>
            <a:ext cx="767736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52560" y="757080"/>
            <a:ext cx="723888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3400" y="1514520"/>
            <a:ext cx="74772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001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14320" y="619200"/>
            <a:ext cx="75153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47640" y="533520"/>
            <a:ext cx="78487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4240" y="995400"/>
            <a:ext cx="77155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3240" y="766800"/>
            <a:ext cx="787752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068480"/>
            <a:ext cx="8991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21:23:43Z</dcterms:created>
  <dc:creator>ASD</dc:creator>
  <dc:description/>
  <dc:language>en-US</dc:language>
  <cp:lastModifiedBy>ASD</cp:lastModifiedBy>
  <dcterms:modified xsi:type="dcterms:W3CDTF">2010-06-29T21:24:03Z</dcterms:modified>
  <cp:revision>1</cp:revision>
  <dc:subject/>
  <dc:title>Slide 1</dc:title>
</cp:coreProperties>
</file>